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6F1-2241-44D5-A720-75949E37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90B-3616-42E7-AED8-BB34CF2C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3A3-96A3-4214-86D9-864141CB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CEB-5809-4E34-98D9-6853DA99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ACB-E152-423E-99FF-86B9B2F9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031-5C52-427F-B99D-8D7F38AD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740-68A5-4A0C-9D98-AB8B6338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FE2-9FCA-4CF8-AB41-3E69C0A0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C55-746A-4BE9-BD1D-192421BF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B58-454F-4A48-BD4A-3C32F35C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C6D-4348-4489-B51E-128B7390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14F-1F4B-4180-A547-620C1BB8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A761-A3B0-497B-A476-1BAC241D4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s un restaurant québécois très chic, un homme a un besoin urgent d’aller aux toilet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décide donc d’essayer le dernier bouton identifié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.T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il se réveille à l’hôpital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us et ébranlé, il sonne l’infirmiè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m’est-il arrivé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010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en…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us étiez dans les toilettes du Chic Grand Restaurant et vous avez appuyé sur des boutons interdit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’est vrai et chaque bouton sur lequel j’appuyais me procurait des sensations merveilleuse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i, oui, mais le dernier sur lequel vous avez appuyé était identifié par les lettr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.T.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137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a signifie 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lèv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ax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tomatique !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1844280"/>
            <a:ext cx="8569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 fait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tre pénis est sous votre oreiller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élas, toutes les cabines sont occupées et le maître d’hôtel, compatissant, lui propose exceptionnellement d’utiliser celles des d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ention ! lui dit-il, vous ne devez en aucun cas toucher aux boutons, à gauche, sur le mur, identifiés 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.C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.C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.P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.T.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is, promis ! lui répond le client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c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l’homme disparaît derrière la 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e fois qu’il a satisfait ses besoins, plus détendu, il commence à lire les lettres sur les boutons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sa curiosité l’emport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l appuie sur le premier bouton, celui identifié par les lettres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E.C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mmédiatement un jet d’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haude lui caresse doucement le derrière.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on Dieu, pense-t-il, les femmes sont gâtée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presse ensuite, curieux, le bouton identifié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.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t un souffle d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d lui caresse doucement le derrière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w ! Hé, Hé ! Magnifiqu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nhardi par ce succès, il presse le bouton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H.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ès lentement, une larg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ppette d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dre parfumée lui tapote délicatement les fesse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veilleux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1:21:07Z</dcterms:created>
  <dc:creator>LM</dc:creator>
  <dc:description/>
  <dc:language>en-US</dc:language>
  <cp:lastModifiedBy>MANIER Jacques</cp:lastModifiedBy>
  <dcterms:modified xsi:type="dcterms:W3CDTF">2005-02-24T22:43:25Z</dcterms:modified>
  <cp:revision>18</cp:revision>
  <dc:subject/>
  <dc:title>Toilettes</dc:title>
</cp:coreProperties>
</file>