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27C-A744-4EAE-BC12-4E99CCE9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895-5FA2-436E-BD57-A8F05C3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513-411B-4200-A69B-8EF527EE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512-A0DB-40D0-904B-796F1ED4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DE9-CC6F-4FCE-9488-0B6EDE1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83E-5C3B-499C-9F4A-74A18FEC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79D-6705-41F1-8DA6-24A5C49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41C-5C8D-4115-B2A3-8FCBDE42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93E-44CF-41F5-AD58-1329EB1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AE6-A462-407D-86A1-4CD264C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EB4-E596-4078-B0C6-312D927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FAD-2FC0-4EF1-8D50-26B57CA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C6C-AF8B-459A-9A09-64C8EABB1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s un restaurant québécois très chic, un homme a un besoin urgent d’aller aux toilet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décide donc d’essayer le dernier bouton identifi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il se réveille à l’hôpital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us et ébranlé, il sonne l’infirm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m’est-il arrivé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01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en…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us étiez dans les toilettes du Chic Grand Restaurant et vous avez appuyé sur des boutons interdit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’est vrai et chaque bouton sur lequel j’appuyais me procurait des sensations merveilleus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i, oui, mais le dernier sur lequel vous avez appuyé était identifié par les lettr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137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a signifie 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lèv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ax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omatique 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 fait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re pénis est sous votre oreille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élas, toutes les cabines sont occupées et le maître d’hôtel, compatissant, lui propose exceptionnellement d’utiliser celles des d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ention ! lui dit-il, vous ne devez en aucun cas toucher aux boutons, à gauche, sur le mur, identifiés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C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C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.P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is, promis ! lui répond le cli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c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l’homme disparaît derrière la 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 fois qu’il a satisfait ses besoins, plus détendu, il commence à lire les lettres sur les boutons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sa curiosité l’emport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l appuie sur le premier bouton, celui identifié par les lettr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E.C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mmédiatement un jet d’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aude lui caresse doucement le derrière.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on Dieu, pense-t-il, les femmes sont gâté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presse ensuite, curieux, le bouton identifi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t un souffle d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d lui caresse doucement le derrièr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w ! Hé, Hé ! Magnifiqu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nhardi par ce succès, il presse le bouton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.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ès lentement, une larg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ppette d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dre parfumée lui tapote délicatement les fess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veilleux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1:21:07Z</dcterms:created>
  <dc:creator>LM</dc:creator>
  <dc:description/>
  <dc:language>en-US</dc:language>
  <cp:lastModifiedBy>MANIER Jacques</cp:lastModifiedBy>
  <dcterms:modified xsi:type="dcterms:W3CDTF">2005-02-24T22:43:25Z</dcterms:modified>
  <cp:revision>18</cp:revision>
  <dc:subject/>
  <dc:title>Toilettes</dc:title>
</cp:coreProperties>
</file>