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8.gif" ContentType="image/gif"/>
  <Override PartName="/ppt/media/image11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3.gif" ContentType="image/gif"/>
  <Override PartName="/ppt/media/image1.gif" ContentType="image/gif"/>
  <Override PartName="/ppt/media/image2.gif" ContentType="image/gif"/>
  <Override PartName="/ppt/media/image3.gif" ContentType="image/gif"/>
  <Override PartName="/ppt/media/deeda.wav" ContentType="audio/x-wav"/>
  <Override PartName="/ppt/media/image7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7AB-0014-4DDF-8A9D-72A61408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ECA-43CB-4757-A6E2-9FAB4C69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E67-087F-4434-8A15-E58CC487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C03-9D4F-4430-AF6D-9AA9B4B5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BC9-8EC8-4F74-B893-8F55B237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D0F-F867-4C47-BDB1-7EC12748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E61-AFD3-41D2-9B9B-82C2D27B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457-A4F5-49C8-8AF7-D932E9C1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B3A-D8BC-47CD-80D6-A84DEFD4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BC0-FF71-49C0-90FA-31561999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594-357A-4895-8483-AC5CE566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57F-F417-4680-8D05-9A863698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1B7E-882E-4FF6-AB68-DF12671E23B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audio" Target="../media/deeda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41440" y="2924280"/>
            <a:ext cx="841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           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n homme est en train de se saoûler à mort dans un b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, à 2 heures du matin, il décide de rentrer chez l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  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l se lève du tabouret et tombe par terre…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         “Merde” .....dit-il....Je suis plus bourré que je ne le pensais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l remonte sur le tabouret et commande deux cafés très f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993000" y="0"/>
            <a:ext cx="2151000" cy="1720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5640" y="620640"/>
            <a:ext cx="1143000" cy="161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132000" y="0"/>
            <a:ext cx="131292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124000" y="404640"/>
            <a:ext cx="809640" cy="1447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089840" y="4581360"/>
            <a:ext cx="2054160" cy="2276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6858000"/>
            <a:ext cx="439560" cy="439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8" name="deed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3493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l essaie de se relever mais tombe de nouveau lourdement.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l commande alors un sandwich et une portion de frites                            avec beaucoup de moutard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is il fait une troisième tentative mais, malheureusement,                     ce n’est pas mieux!!!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l décide finalement de rentrer chez lui à quatre pat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5080" y="0"/>
            <a:ext cx="1901520" cy="2492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72360" y="187200"/>
            <a:ext cx="2286000" cy="1936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020000" y="5672160"/>
            <a:ext cx="2124000" cy="1185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u bout d’un certain nombre d’heures, il retrouve sa mai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l ouvre difficilement la porte, monte les escaliers,                           se déshabille et se couche doucement à coté de sa fem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e lendemain matin, il se réveille                                                 alors que sa femme entre dans la chamb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lle lui dit: “ Qu’est-ce que t’étais bourré hier soir, dis-donc”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859040" cy="2924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267680" y="333360"/>
            <a:ext cx="1320840" cy="2317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236000" y="5246640"/>
            <a:ext cx="1143000" cy="1611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47640" y="1295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Lui: “Pourquoi tu dis ça” 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          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Elle : “Le patron du café a téléphoné”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3360" y="549360"/>
            <a:ext cx="1909800" cy="26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11280" y="2630520"/>
            <a:ext cx="4753080" cy="396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812000" y="1268280"/>
            <a:ext cx="960480" cy="1074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1197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nl-NL" sz="4800" spc="-1" strike="noStrike">
                <a:solidFill>
                  <a:srgbClr val="000000"/>
                </a:solidFill>
                <a:latin typeface="Times New Roman"/>
              </a:rPr>
              <a:t>Ton fauteuil roulant est resté   au bistrot 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92360" y="2730600"/>
            <a:ext cx="395928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23:38:30Z</dcterms:created>
  <dc:creator>yolanda</dc:creator>
  <dc:description/>
  <dc:language>en-US</dc:language>
  <cp:lastModifiedBy> DOLORÈS Boulanger</cp:lastModifiedBy>
  <dcterms:modified xsi:type="dcterms:W3CDTF">2007-05-05T00:21:41Z</dcterms:modified>
  <cp:revision>12</cp:revision>
  <dc:subject/>
  <dc:title>           hoezo dronken </dc:title>
</cp:coreProperties>
</file>