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5.jpeg" ContentType="image/jpeg"/>
  <Override PartName="/ppt/media/image35.png" ContentType="image/png"/>
  <Override PartName="/ppt/media/image10.jpeg" ContentType="image/jpeg"/>
  <Override PartName="/ppt/media/image8.jpeg" ContentType="image/jpeg"/>
  <Override PartName="/ppt/media/image33.png" ContentType="image/png"/>
  <Override PartName="/ppt/media/image14.jpeg" ContentType="image/jpe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4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27.png" ContentType="image/png"/>
  <Override PartName="/ppt/media/image6.jpeg" ContentType="image/jpeg"/>
  <Override PartName="/ppt/media/image20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Theme%20-%20Walt%20Disney%20Classic%20Dumbo%2001.wav" ContentType="audio/x-wav"/>
  <Override PartName="/ppt/media/image1.jpeg" ContentType="image/jpeg"/>
  <Override PartName="/ppt/media/image39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382-D9AA-4319-85C6-0C186BDD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F4E-7C49-48CF-8E8D-09EE5C6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2CF-53AB-4544-AA0A-28354172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962-BF09-4A89-A631-EEAE8AB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26C-3C6C-4B0F-ACCB-67A3B91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B67-1080-4614-A1EC-7A1F9381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354-340F-47C6-A286-5524C1FD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264-CBD5-4D54-BAC5-4E873950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C70-1FC3-472A-AE6E-96881CC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A05-48CB-47E4-9606-367A0839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631-688B-46F4-AD0C-608CA8C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32B-A0C0-4B61-B791-7A4B0C5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596-77BF-4A25-8035-A377B01D29F5}" type="slidenum">
              <a:rPr b="0" lang="nl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Theme%20-%20Walt%20Disney%20Classic%20Dumbo%200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9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4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4.png"/><Relationship Id="rId4" Type="http://schemas.openxmlformats.org/officeDocument/2006/relationships/image" Target="../media/image38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39.pn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3068640"/>
            <a:ext cx="42861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Comment Stella Artoi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erlin Sans FB Demi"/>
              </a:rPr>
              <a:t>épousa un américain 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erlin Sans FB Demi"/>
              <a:ea typeface="Berlin Sans FB Dem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762120"/>
            <a:ext cx="712944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 Demi"/>
              </a:rPr>
              <a:t>Légende de la bièr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4508640"/>
            <a:ext cx="147456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4869000"/>
            <a:ext cx="874800" cy="143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587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Musique d’accompag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360" y="2819520"/>
            <a:ext cx="437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mère, la reine, portait le nom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200" y="1557360"/>
            <a:ext cx="604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vivait dans un petit pays. Son père se nomma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360" y="442800"/>
            <a:ext cx="6605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était une fois une merveilleuse princesse prénommé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stella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konink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1331640" cy="745920"/>
          </a:xfrm>
          <a:prstGeom prst="rect">
            <a:avLst/>
          </a:prstGeom>
          <a:ln w="0">
            <a:noFill/>
          </a:ln>
        </p:spPr>
      </p:pic>
      <p:pic>
        <p:nvPicPr>
          <p:cNvPr id="51" name="corona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1397160" cy="922320"/>
          </a:xfrm>
          <a:prstGeom prst="rect">
            <a:avLst/>
          </a:prstGeom>
          <a:ln w="0">
            <a:noFill/>
          </a:ln>
        </p:spPr>
      </p:pic>
      <p:pic>
        <p:nvPicPr>
          <p:cNvPr id="52" name="hoegaarden" descr=""/>
          <p:cNvPicPr/>
          <p:nvPr/>
        </p:nvPicPr>
        <p:blipFill>
          <a:blip r:embed="rId4"/>
          <a:stretch/>
        </p:blipFill>
        <p:spPr>
          <a:xfrm>
            <a:off x="5364000" y="3887640"/>
            <a:ext cx="1440000" cy="1136880"/>
          </a:xfrm>
          <a:prstGeom prst="rect">
            <a:avLst/>
          </a:prstGeom>
          <a:ln w="0">
            <a:noFill/>
          </a:ln>
        </p:spPr>
      </p:pic>
      <p:pic>
        <p:nvPicPr>
          <p:cNvPr id="53" name="leffebl" descr=""/>
          <p:cNvPicPr/>
          <p:nvPr/>
        </p:nvPicPr>
        <p:blipFill>
          <a:blip r:embed="rId5"/>
          <a:stretch/>
        </p:blipFill>
        <p:spPr>
          <a:xfrm>
            <a:off x="7524720" y="3860640"/>
            <a:ext cx="1357200" cy="113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520" y="4221000"/>
            <a:ext cx="522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s habitaient un château, quelque part entre</a:t>
            </a:r>
            <a:r>
              <a:rPr b="0" lang="nl-NL" sz="2000" spc="-1" strike="noStrike">
                <a:solidFill>
                  <a:srgbClr val="ffffff"/>
                </a:solidFill>
                <a:latin typeface="Forte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konink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439640" cy="803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58053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stella" descr=""/>
          <p:cNvPicPr/>
          <p:nvPr/>
        </p:nvPicPr>
        <p:blipFill>
          <a:blip r:embed="rId7"/>
          <a:stretch/>
        </p:blipFill>
        <p:spPr>
          <a:xfrm>
            <a:off x="1066680" y="5410080"/>
            <a:ext cx="1224000" cy="110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91120" y="4202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3880" y="5791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ut 18 a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écida de la ma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2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3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1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8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3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8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3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6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1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3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8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1840" y="208080"/>
            <a:ext cx="33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convoqua ses consei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79200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224000" cy="80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6800" y="9032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 époux pou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57400" y="685800"/>
            <a:ext cx="936720" cy="84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9920" y="1371600"/>
            <a:ext cx="1152360" cy="83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840" y="1622520"/>
            <a:ext cx="56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e premier candidat sur la liste était le cheva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788000" y="2133720"/>
            <a:ext cx="1081080" cy="78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995640" y="2924280"/>
            <a:ext cx="1295640" cy="90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5486400" y="3733920"/>
            <a:ext cx="129708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886200" y="4800600"/>
            <a:ext cx="934920" cy="90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1214280" y="5661000"/>
            <a:ext cx="1224000" cy="8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1224000" cy="90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11640" y="18900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54600" y="228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leur ordonna de trou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8080" y="2346480"/>
            <a:ext cx="41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pidemment, ils constatèrent qu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640" y="234936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’avait d’yeux que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9520" y="4114800"/>
            <a:ext cx="50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Ils quittèrent les lieux et gravirent le terr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029200"/>
            <a:ext cx="36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ù vivait le mystérieux co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680" y="59277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920" y="59436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’exclama : il est possédé par 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124080"/>
            <a:ext cx="35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 son jeune et bel éc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2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4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9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6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1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8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3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8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3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6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1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36504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je l’ai surpris se lever la nuit et maudire 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1657440" cy="97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1296720" cy="87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2087280" cy="13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75640" y="4992840"/>
            <a:ext cx="1728720" cy="133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7360" y="129528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s’éloignèrent et rendirent visite à un gentilhomme, un écrivain 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8526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lui-ci était trop occupé à rédiger un nouvea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4280" y="4038480"/>
            <a:ext cx="45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ont le thème était l’érotisme caché 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720" y="5394240"/>
            <a:ext cx="63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continuèrent leur voyage. Dans les environs habit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0512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nom 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100"/>
                            </p:stCondLst>
                            <p:childTnLst>
                              <p:par>
                                <p:cTn id="2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4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9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7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4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5600" y="669960"/>
            <a:ext cx="51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s, après avoir successivement épous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2590920" cy="98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31280" y="1916280"/>
            <a:ext cx="1512720" cy="110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52480" y="289548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stella" descr=""/>
          <p:cNvPicPr/>
          <p:nvPr/>
        </p:nvPicPr>
        <p:blipFill>
          <a:blip r:embed="rId5"/>
          <a:stretch/>
        </p:blipFill>
        <p:spPr>
          <a:xfrm>
            <a:off x="6300720" y="2924280"/>
            <a:ext cx="1225440" cy="11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635280" y="4149720"/>
            <a:ext cx="2519280" cy="108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3780000" y="5229360"/>
            <a:ext cx="1457280" cy="162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877080" y="5373720"/>
            <a:ext cx="2087640" cy="1144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1400" y="2270160"/>
            <a:ext cx="72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en avait marre des femmes. Chemin faisant, ils rencontrè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00" y="32608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e fils d’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78400" y="32767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i accepta d’épouser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9480" y="436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ependant, il fut atteint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6240" y="580536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s se rendirent alors chez le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3080" y="57340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à l’abbaye d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476280"/>
            <a:ext cx="1295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3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9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40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3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8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3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8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49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4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6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1840" y="326880"/>
            <a:ext cx="44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lui-ci leur conseilla un pèlerinage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1439640" cy="105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7920"/>
            <a:ext cx="1727280" cy="1058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771640" y="1197000"/>
            <a:ext cx="122400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940360" y="1197000"/>
            <a:ext cx="1440000" cy="101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200400" y="2286000"/>
            <a:ext cx="1440000" cy="117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467480" y="2259000"/>
            <a:ext cx="1440000" cy="109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286000" y="3657600"/>
            <a:ext cx="1150920" cy="979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7451640" y="3573360"/>
            <a:ext cx="144000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konink" descr=""/>
          <p:cNvPicPr/>
          <p:nvPr/>
        </p:nvPicPr>
        <p:blipFill>
          <a:blip r:embed="rId9"/>
          <a:stretch/>
        </p:blipFill>
        <p:spPr>
          <a:xfrm>
            <a:off x="2362320" y="5105520"/>
            <a:ext cx="1331640" cy="74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019920" y="4648320"/>
            <a:ext cx="1968480" cy="19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5920" y="304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720" y="144792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Là, ils rencontrè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22640" y="14479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ais c’était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720" y="2666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 ses côtés était vautr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5909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i lui parlait du b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1680" y="39466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 y avait aussi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1680" y="4005360"/>
            <a:ext cx="36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qui avait une panse comm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0240" y="525780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revinrent ch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vec un début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3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6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1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3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8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7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2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7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2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7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7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22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4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90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71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457200"/>
            <a:ext cx="35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Arrivés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1584360" cy="1254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4414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konink" descr=""/>
          <p:cNvPicPr/>
          <p:nvPr/>
        </p:nvPicPr>
        <p:blipFill>
          <a:blip r:embed="rId3"/>
          <a:stretch/>
        </p:blipFill>
        <p:spPr>
          <a:xfrm>
            <a:off x="2771640" y="1341360"/>
            <a:ext cx="1332000" cy="74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4480" y="2286000"/>
            <a:ext cx="20163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209680" y="3657600"/>
            <a:ext cx="1295640" cy="1171440"/>
          </a:xfrm>
          <a:prstGeom prst="rect">
            <a:avLst/>
          </a:prstGeom>
          <a:ln w="0">
            <a:noFill/>
          </a:ln>
        </p:spPr>
      </p:pic>
      <p:pic>
        <p:nvPicPr>
          <p:cNvPr id="136" name="konink" descr=""/>
          <p:cNvPicPr/>
          <p:nvPr/>
        </p:nvPicPr>
        <p:blipFill>
          <a:blip r:embed="rId6"/>
          <a:stretch/>
        </p:blipFill>
        <p:spPr>
          <a:xfrm>
            <a:off x="6821640" y="3902040"/>
            <a:ext cx="1331640" cy="74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05120" y="5334120"/>
            <a:ext cx="1873080" cy="119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219640" y="5181480"/>
            <a:ext cx="2448000" cy="1600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7672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ls aperçurent le carrosse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60020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vant le châte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1760" y="2830680"/>
            <a:ext cx="60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ans le carrosse était assis le milliardaire améric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7080" y="411480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prêt à emme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78760" y="41148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n Amérique et à offrir 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7520" y="569916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une super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1080" y="57340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6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1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9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4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3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8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7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2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8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9280" cy="91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0920" y="476280"/>
            <a:ext cx="48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de joie, ingurgita un grand nombre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296720" cy="117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24080" y="1295280"/>
            <a:ext cx="1944720" cy="1328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1160" y="1763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t se réveilla avec 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3920" y="35164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ette belle histoire fut racontée p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83040" y="5241960"/>
            <a:ext cx="686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la prochaine fois ! … hic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9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4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9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62360" y="1866960"/>
            <a:ext cx="1619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0:17:47Z</dcterms:created>
  <dc:creator>Serge68@com</dc:creator>
  <dc:description/>
  <dc:language>en-US</dc:language>
  <cp:lastModifiedBy> </cp:lastModifiedBy>
  <dcterms:modified xsi:type="dcterms:W3CDTF">2006-01-24T17:25:05Z</dcterms:modified>
  <cp:revision>31</cp:revision>
  <dc:subject>Diaporama </dc:subject>
  <dc:title>Légende de la Bière </dc:title>
</cp:coreProperties>
</file>