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680000" cy="391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00000" y="3535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'étais aux toilettes en train de faire mes besoins lorsque j'entend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50920" y="206820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Salut, comment ça v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551640" y="1503360"/>
            <a:ext cx="248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 n'est pas que j'apprécie de discuter dans un pareil moment... Notamment sans savoir qui se trouve dans les WC d'à coté. Mais comme je suis poli, je répond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21440" y="47912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ça va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4839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'autre dema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361600"/>
            <a:ext cx="19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Qu'es-tu en train de faire 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94480" y="134748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lle question stupide. C'était si ridicule que je répond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67640" y="28335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Euh.. Je crois que je suis en train de faire la même chose que toi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78884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 c'est alors que le comble de la situation arri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14100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Puis-je te rejoindre 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424160"/>
            <a:ext cx="24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en, je crois que j'ai affaire à un malade. Néanmoins, fidèle à ma bonne éducation, je répond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2778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on ! ... Pour le moment je suis occupé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200" y="608760"/>
            <a:ext cx="89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t c'est alors que j'entendis le type en train de di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335200"/>
            <a:ext cx="74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"Bien... Je te rappelle plus tard parce qu'il y a un idiot assis dans les toilettes à côté des miennes et, chaque fois que je parle, il me répond !.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1:37:06Z</dcterms:created>
  <dc:creator/>
  <dc:description/>
  <dc:language>en-US</dc:language>
  <cp:lastModifiedBy> </cp:lastModifiedBy>
  <dcterms:modified xsi:type="dcterms:W3CDTF">2005-11-24T10:54:12Z</dcterms:modified>
  <cp:revision>4</cp:revision>
  <dc:subject/>
  <dc:title>Entrometido</dc:title>
</cp:coreProperties>
</file>